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15.png" ContentType="image/png"/>
  <Override PartName="/ppt/media/image11.gif" ContentType="image/gif"/>
  <Override PartName="/ppt/media/image14.png" ContentType="image/png"/>
  <Override PartName="/ppt/media/image10.wmf" ContentType="image/x-wmf"/>
  <Override PartName="/ppt/media/image2.png" ContentType="image/png"/>
  <Override PartName="/ppt/media/image22.gif" ContentType="image/gif"/>
  <Override PartName="/ppt/media/image9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8.png" ContentType="image/png"/>
  <Override PartName="/ppt/media/image28.gif" ContentType="image/gif"/>
  <Override PartName="/ppt/media/image6.jpeg" ContentType="image/jpeg"/>
  <Override PartName="/ppt/media/image26.wmf" ContentType="image/x-wmf"/>
  <Override PartName="/ppt/media/image4.png" ContentType="image/png"/>
  <Override PartName="/ppt/media/image27.png" ContentType="image/png"/>
  <Override PartName="/ppt/media/image25.wmf" ContentType="image/x-wmf"/>
  <Override PartName="/ppt/media/image24.wmf" ContentType="image/x-wmf"/>
  <Override PartName="/ppt/media/image23.png" ContentType="image/png"/>
  <Override PartName="/ppt/media/image20.png" ContentType="image/png"/>
  <Override PartName="/ppt/media/image3.png" ContentType="image/png"/>
  <Override PartName="/ppt/media/image21.png" ContentType="image/png"/>
  <Override PartName="/ppt/media/image19.png" ContentType="image/png"/>
  <Override PartName="/ppt/media/image18.wmf" ContentType="image/x-wmf"/>
  <Override PartName="/ppt/media/image17.png" ContentType="image/png"/>
  <Override PartName="/ppt/media/image16.jpeg" ContentType="image/jpeg"/>
  <Override PartName="/ppt/media/image5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4D0B-76C7-4E99-AC4E-1549185CB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AE8B-0F75-4262-B489-633EDF6F5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FEFC-40DA-488F-93A4-0BB011398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5E31-B2B6-47EE-BFCA-94182414B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65361-BC05-40EF-9C49-88BDD3FF6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8B76F-53C9-49E8-B36B-CB6D5BE5B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6F973-739B-415B-B5BF-05343C427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8F240-6EB0-4AF4-A4E9-0798A129E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E9E59-5E03-475E-B563-5F1E58F5B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217E8-04E5-4E0E-90E5-7C3152F2E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880DA-2B26-40FE-BCE3-A2C5DE154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C41A-7448-46F2-A0CF-B6F666BB2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23BE8-14D5-4683-87F0-464DD0BC5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5D9F9-6CD3-4173-AE4E-94C1E9370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82859-7E0E-42F3-BD24-0B6745140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C295E-49E7-422E-9E0D-24B1CE868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C260D-80C2-4665-B243-20B305BF5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29DD91-2DEE-49FC-98F8-F4C513C2C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43424B-86AB-4AAF-9873-CFA1032FD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F3BF3E-06C9-4402-BC55-84A4A1B55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C836CC-EC0B-4C4D-B77C-C9B8D6025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81FDE1-9947-4D80-956C-610F6AA80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AD44-6D29-4642-B8B7-B36FBDA35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A3E507-7C5A-48D5-B533-04A3D2334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2F6FAE-BA59-4C13-8FB6-477F61196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30ED19-636C-4B33-83B9-9FD0011C7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84F56B-9655-4A0A-93E2-C4F04F578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526B9F-1E32-429B-8815-10676CFC6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A63312-FE41-42ED-9CC3-6A46B8AAE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423B3B-65EC-4615-8CD0-F5A887757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9C7644-1ACA-4B6A-9305-33A2D673B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0EFE53-CB96-4872-9373-04BE8E3E2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1F121F-F431-4870-9DAE-2CC2DFECC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8B75-65B6-46DC-9C06-E581BFB88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F362F2-DBD5-4DE8-892C-D34EBB22E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3C7C6C-129A-4F65-8D09-74CE45D4B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67492A-11CD-4424-B91D-0AA26C6AD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D39E10-857F-4381-A9E5-BC4DF704A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A893AF-3C85-461D-92A8-E48566A05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A143B9-6E52-461B-88CD-BC629FF32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9E4217-40A1-4BCA-B15E-AC5A44575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42D974-E55F-409E-8BA9-A95E08844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D2A558-3A23-4F34-8BB6-9BC9D9EAA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C11150-DD7A-4E27-B729-6AB780214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D2D0-884C-4D4B-B5F6-C4BC60A10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63A57C-EB6E-4332-825F-76B5E902A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FDC773-9278-4F39-A84E-86DBD47D7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AB1FB3-5AD7-42BC-83E8-2261BBD70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C69980-0B33-4AD4-8C4A-1D91651C3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21D3A6-E526-4136-950F-BCF8947C4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5DE603-F8D1-4417-A2B5-845159F05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AF500B-20D6-4B22-9C29-6428D235C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DF1169-DA87-4B61-A576-B7D297BB9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1EBFC0-D543-4CC1-8295-43487FEAC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AF275D-6DED-4352-8199-1343C525E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3159-7CED-4491-B298-621E49356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A39C37-A007-4AAB-AD91-C9A24A6EA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960251-D5F5-420F-BF32-AEC63768E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DFF892-849A-4C21-AACC-7C29840AB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481847-4FCB-4464-9A10-934F2356D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2BE495-6AC0-407C-8FF2-7204C5843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B79AB0-FC48-4EFF-9A68-69D879F6E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09BD64-39F1-4D1B-8B2C-01B5FBA5E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E47485-70FD-4FCF-930B-48048F5DF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5DABC7-ABEA-4D77-8146-1F088EB02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82ADAF-E74C-4C60-BA33-B647F0F82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1054-7537-40AC-88DB-A1F0E3842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93728E-F621-4CE2-98B2-716191DFE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2C10A4-E8C9-4DE5-AFA6-1856C3656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9236C2-2EB0-41DC-AEFE-6383364DC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667B4B-782D-4F23-B234-11DB2EF1C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096E02-01D4-48D4-B36F-D08BAA9F9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2A4F27-C5C6-43FF-8857-02F7C02A2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CE22CF-F688-4AE0-9C15-85A22BCC4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36341D-DCC3-4135-A96C-51D95B76A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159E4F-2DAD-45FB-9746-3F8F23796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53FEEC-5A69-4EA1-A853-BC0FCC281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8E88-B86F-4804-BF1A-CA23BB6C2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81A3E2-A449-4E8F-8973-493F1624C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0D225E-7FAE-415D-8AF6-84E590632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1FD91E-C5F5-4824-B52C-27D98D37F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2B1E8E-260B-4C21-8BF5-601752984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D7A351-C446-4ED2-8BD7-137A50D5C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56EE9B-D98B-4814-8DFC-2576AC15D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65BC0B-8D7D-4E4C-93BB-1FBEC1E4C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B51A8A-5EE7-4CE0-8C6F-E8D714564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72C75B-283B-49AA-8F15-37095A4CE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C01D0C-8024-4BAB-90B4-537A03CB3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EE72-FA55-414E-A5A2-ACF9B047E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E3FB49-69F7-4CEB-97D9-8A62CBF62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A01DE8-D5CB-42C5-A13C-C1625B472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51668E-D85F-4991-AF43-46FE45E77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76083F-A9AD-427B-80DB-C3DE43C41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7C2C67-46AE-4FF7-BA1A-777B310A3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9E8490-6BDC-42EC-B685-3021D4424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1874A2-818A-4949-BE4C-221C3B183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55707-2282-4775-8B87-69C1FB24E063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2284200" y="1904760"/>
            <a:ext cx="63990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A0556-CD02-4055-B44D-B113B2330A86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9551b"/>
                </a:solidFill>
                <a:latin typeface="Palatino Linotype"/>
              </a:rPr>
              <a:t>Click to edit the title text format</a:t>
            </a: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2741400" y="1828440"/>
            <a:ext cx="5484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Click to edit the outline text format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1" marL="683280" indent="-262800">
              <a:spcBef>
                <a:spcPts val="700"/>
              </a:spcBef>
              <a:buClr>
                <a:srgbClr val="79551b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Second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2" marL="1051560" indent="-210240">
              <a:spcBef>
                <a:spcPts val="700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Third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3" marL="1472040" indent="-210240">
              <a:spcBef>
                <a:spcPts val="700"/>
              </a:spcBef>
              <a:buClr>
                <a:srgbClr val="79551b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Four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4" marL="1892520" indent="-210240">
              <a:spcBef>
                <a:spcPts val="700"/>
              </a:spcBef>
              <a:buClr>
                <a:srgbClr val="79551b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Fif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5" marL="1892520" indent="-210240">
              <a:spcBef>
                <a:spcPts val="700"/>
              </a:spcBef>
              <a:buClr>
                <a:srgbClr val="ffffff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Six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6" marL="1892520" indent="-210240">
              <a:spcBef>
                <a:spcPts val="700"/>
              </a:spcBef>
              <a:buClr>
                <a:srgbClr val="ffffff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Seven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914400" y="5886000"/>
            <a:ext cx="1752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5886000"/>
            <a:ext cx="28958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477120" y="5886000"/>
            <a:ext cx="1752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9551b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DF702-75A0-41CC-9D8A-113AB021D78B}" type="slidenum">
              <a:rPr b="0" lang="ru-RU" sz="1200" spc="-1" strike="noStrike">
                <a:solidFill>
                  <a:srgbClr val="79551b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35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36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39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42D96-FCE3-48FA-87FF-D512473DCD23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85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86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89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0BD7D-B78D-4B12-BC87-5777F67555D8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 type="sldNum" idx="18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EF80C-9E19-4372-953C-6D5F704C881C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2284200" y="1904760"/>
            <a:ext cx="63990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7B201-9759-4920-81F1-B3338743CA46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9551b"/>
                </a:solidFill>
                <a:latin typeface="Palatino Linotype"/>
              </a:rPr>
              <a:t>Click to edit the title text format</a:t>
            </a: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2741400" y="1828440"/>
            <a:ext cx="5484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Click to edit the outline text format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1" marL="683280" indent="-262800">
              <a:spcBef>
                <a:spcPts val="700"/>
              </a:spcBef>
              <a:buClr>
                <a:srgbClr val="79551b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Second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2" marL="1051560" indent="-210240">
              <a:spcBef>
                <a:spcPts val="700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Third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3" marL="1472040" indent="-210240">
              <a:spcBef>
                <a:spcPts val="700"/>
              </a:spcBef>
              <a:buClr>
                <a:srgbClr val="79551b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Four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4" marL="1892520" indent="-210240">
              <a:spcBef>
                <a:spcPts val="700"/>
              </a:spcBef>
              <a:buClr>
                <a:srgbClr val="79551b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Fif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5" marL="1892520" indent="-210240">
              <a:spcBef>
                <a:spcPts val="700"/>
              </a:spcBef>
              <a:buClr>
                <a:srgbClr val="ffffff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Six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6" marL="1892520" indent="-210240">
              <a:spcBef>
                <a:spcPts val="700"/>
              </a:spcBef>
              <a:buClr>
                <a:srgbClr val="ffffff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Seven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dt" idx="22"/>
          </p:nvPr>
        </p:nvSpPr>
        <p:spPr>
          <a:xfrm>
            <a:off x="914400" y="5886000"/>
            <a:ext cx="1752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ftr" idx="23"/>
          </p:nvPr>
        </p:nvSpPr>
        <p:spPr>
          <a:xfrm>
            <a:off x="3124080" y="5886000"/>
            <a:ext cx="28958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 type="sldNum" idx="24"/>
          </p:nvPr>
        </p:nvSpPr>
        <p:spPr>
          <a:xfrm>
            <a:off x="6477120" y="5886000"/>
            <a:ext cx="1752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9551b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8EB14-6F1C-41D2-9233-93E2CA34FF20}" type="slidenum">
              <a:rPr b="0" lang="ru-RU" sz="1200" spc="-1" strike="noStrike">
                <a:solidFill>
                  <a:srgbClr val="79551b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Заголовок 1" descr=""/>
          <p:cNvPicPr/>
          <p:nvPr/>
        </p:nvPicPr>
        <p:blipFill>
          <a:blip r:embed="rId1"/>
          <a:stretch/>
        </p:blipFill>
        <p:spPr>
          <a:xfrm>
            <a:off x="633240" y="895320"/>
            <a:ext cx="8321760" cy="257976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9" descr="a1"/>
          <p:cNvPicPr/>
          <p:nvPr/>
        </p:nvPicPr>
        <p:blipFill>
          <a:blip r:embed="rId2"/>
          <a:stretch/>
        </p:blipFill>
        <p:spPr>
          <a:xfrm>
            <a:off x="1063800" y="3500280"/>
            <a:ext cx="2936880" cy="3016440"/>
          </a:xfrm>
          <a:prstGeom prst="rect">
            <a:avLst/>
          </a:prstGeom>
          <a:ln w="0">
            <a:noFill/>
          </a:ln>
        </p:spPr>
      </p:pic>
      <p:sp>
        <p:nvSpPr>
          <p:cNvPr id="361" name="Дата 4"/>
          <p:cNvSpPr/>
          <p:nvPr/>
        </p:nvSpPr>
        <p:spPr>
          <a:xfrm>
            <a:off x="2286000" y="500040"/>
            <a:ext cx="327672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1eaee"/>
                </a:solidFill>
                <a:latin typeface="Times New Roman"/>
                <a:ea typeface="Times New Roman"/>
              </a:rPr>
              <a:t>24 октября 20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Box 5"/>
          <p:cNvSpPr/>
          <p:nvPr/>
        </p:nvSpPr>
        <p:spPr>
          <a:xfrm>
            <a:off x="3929040" y="4572000"/>
            <a:ext cx="507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ОУ «Чердынская СОШ им. А. Спирина», учитель: Светлана Владимировна Билал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5" name="Овал 1"/>
          <p:cNvGrpSpPr/>
          <p:nvPr/>
        </p:nvGrpSpPr>
        <p:grpSpPr>
          <a:xfrm>
            <a:off x="1427040" y="2889360"/>
            <a:ext cx="792360" cy="792000"/>
            <a:chOff x="1427040" y="2889360"/>
            <a:chExt cx="792360" cy="792000"/>
          </a:xfrm>
        </p:grpSpPr>
        <p:pic>
          <p:nvPicPr>
            <p:cNvPr id="396" name="Овал 1" descr=""/>
            <p:cNvPicPr/>
            <p:nvPr/>
          </p:nvPicPr>
          <p:blipFill>
            <a:blip r:embed="rId1"/>
            <a:stretch/>
          </p:blipFill>
          <p:spPr>
            <a:xfrm>
              <a:off x="1427040" y="2889360"/>
              <a:ext cx="792360" cy="79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" name=""/>
            <p:cNvSpPr/>
            <p:nvPr/>
          </p:nvSpPr>
          <p:spPr>
            <a:xfrm>
              <a:off x="1593720" y="3022560"/>
              <a:ext cx="45576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 thruBlk="true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path" presetID="4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827 0.01342 C 0.09254 -0.10777 0.1658 -0.21299 0.26406 -0.22016 C 0.35799 -0.22918 0.44584 -0.14778 0.45174 -0.03006 C 0.4592 0.0784 0.39757 0.17993 0.30938 0.1871 C 0.229 0.19265 0.15261 0.12558 0.1467 0.02429 C 0.1408 -0.06799 0.19219 -0.15494 0.26684 -0.16211 C 0.33594 -0.16743 0.40052 -0.11124 0.40486 -0.02659 C 0.4092 0.0495 0.36823 0.1235 0.3066 0.12766 C 0.25087 0.13298 0.19809 0.08927 0.19358 0.02059 C 0.1908 -0.04093 0.22153 -0.1006 0.26997 -0.10407 C 0.3125 -0.10777 0.35504 -0.07516 0.35799 -0.02266 C 0.36077 0.02244 0.33889 0.06568 0.30347 0.06962 C 0.27431 0.07285 0.2434 0.0532 0.24184 0.01712 C 0.23906 -0.01202 0.25087 -0.04278 0.27275 -0.04625 C 0.29063 -0.04625 0.30816 -0.03908 0.31094 -0.01942 C 0.3125 -0.00647 0.30938 0.00602 0.3007 0.01134 C 0.29636 0.01342 0.2934 0.01342 0.28906 0.01134 E">
                                      <p:cBhvr>
                                        <p:cTn id="86" dur="2000" fill="hold"/>
                                        <p:tgtEl>
                                          <p:spTgt spid="3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Овал 4"/>
          <p:cNvSpPr/>
          <p:nvPr/>
        </p:nvSpPr>
        <p:spPr>
          <a:xfrm>
            <a:off x="3581280" y="1828800"/>
            <a:ext cx="990720" cy="8380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path" presetID="2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084 -0.13321 C 0.1007 -0.13321 0.16667 -0.07332 0.16667 -0.00024 C 0.16667 0.08649 0.09375 0.11748 0.04966 0.13066 L -0.0085 0.14431 C -0.05208 0.15749 -0.125 0.19079 -0.125 0.28839 C -0.125 0.3506 -0.05955 0.42183 0.02084 0.42183 C 0.1007 0.42183 0.16667 0.3506 0.16667 0.28839 C 0.16667 0.19079 0.09375 0.15749 0.04966 0.14431 L -0.0085 0.13066 C -0.05208 0.11748 -0.125 0.08649 -0.125 -0.00024 C -0.125 -0.07332 -0.05955 -0.13321 0.02084 -0.13321 Z">
                                      <p:cBhvr>
                                        <p:cTn id="92" dur="2000" fill="hold"/>
                                        <p:tgtEl>
                                          <p:spTgt spid="3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  <p:sp>
        <p:nvSpPr>
          <p:cNvPr id="401" name="Овал 3"/>
          <p:cNvSpPr/>
          <p:nvPr/>
        </p:nvSpPr>
        <p:spPr>
          <a:xfrm>
            <a:off x="3733920" y="2438280"/>
            <a:ext cx="685800" cy="6858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path" presetID="3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125 -0.00555 L -0.26389 0.38298 L -0.2177 -0.00555 L -0.16857 0.38298 L -0.11961 -0.00555 L -0.07395 0.38298 L -0.02465 -0.00555 L 0.02153 0.38298 L 0.07084 -0.00555 L 0.11945 0.38298 L 0.16563 -0.00555 L 0.21476 0.38298 L 0.26042 -0.00555 L 0.30938 0.38298 L 0.35868 -0.00555 L 0.40486 0.38298 L 0.45417 -0.00555 E">
                                      <p:cBhvr>
                                        <p:cTn id="98" dur="5000" fill="hold"/>
                                        <p:tgtEl>
                                          <p:spTgt spid="4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4617b"/>
                </a:solidFill>
                <a:latin typeface="Calibri"/>
              </a:rPr>
              <a:t>Работа на компьютере</a:t>
            </a:r>
            <a:endParaRPr b="0" lang="en-US" sz="6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403" name="Picture 4" descr="C:\Documents and Settings\Пользователь\Рабочий стол\с1.jpg"/>
          <p:cNvPicPr/>
          <p:nvPr/>
        </p:nvPicPr>
        <p:blipFill>
          <a:blip r:embed="rId1"/>
          <a:stretch/>
        </p:blipFill>
        <p:spPr>
          <a:xfrm>
            <a:off x="1928880" y="2286000"/>
            <a:ext cx="4429080" cy="442908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2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Picture 2" descr=""/>
          <p:cNvPicPr/>
          <p:nvPr/>
        </p:nvPicPr>
        <p:blipFill>
          <a:blip r:embed="rId1"/>
          <a:srcRect l="5628" t="5484" r="9664" b="41168"/>
          <a:stretch/>
        </p:blipFill>
        <p:spPr>
          <a:xfrm>
            <a:off x="1214280" y="857160"/>
            <a:ext cx="6864480" cy="5538960"/>
          </a:xfrm>
          <a:prstGeom prst="rect">
            <a:avLst/>
          </a:prstGeom>
          <a:ln w="0">
            <a:noFill/>
          </a:ln>
        </p:spPr>
      </p:pic>
      <p:sp>
        <p:nvSpPr>
          <p:cNvPr id="406" name="TextBox 2"/>
          <p:cNvSpPr/>
          <p:nvPr/>
        </p:nvSpPr>
        <p:spPr>
          <a:xfrm>
            <a:off x="2428920" y="5000760"/>
            <a:ext cx="107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З В У 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Box 3"/>
          <p:cNvSpPr/>
          <p:nvPr/>
        </p:nvSpPr>
        <p:spPr>
          <a:xfrm>
            <a:off x="4286160" y="5000760"/>
            <a:ext cx="107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З Н А 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Box 4"/>
          <p:cNvSpPr/>
          <p:nvPr/>
        </p:nvSpPr>
        <p:spPr>
          <a:xfrm>
            <a:off x="6215040" y="5000760"/>
            <a:ext cx="12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М Ы Ш 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Box 5"/>
          <p:cNvSpPr/>
          <p:nvPr/>
        </p:nvSpPr>
        <p:spPr>
          <a:xfrm>
            <a:off x="1928880" y="5929200"/>
            <a:ext cx="200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Н О С И Т Е Л 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Box 6"/>
          <p:cNvSpPr/>
          <p:nvPr/>
        </p:nvSpPr>
        <p:spPr>
          <a:xfrm>
            <a:off x="3857760" y="5929200"/>
            <a:ext cx="200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Д И С 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Box 7"/>
          <p:cNvSpPr/>
          <p:nvPr/>
        </p:nvSpPr>
        <p:spPr>
          <a:xfrm>
            <a:off x="5857920" y="5929200"/>
            <a:ext cx="200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А З Б У К 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Picture 4" descr="j0397224"/>
          <p:cNvPicPr/>
          <p:nvPr/>
        </p:nvPicPr>
        <p:blipFill>
          <a:blip r:embed="rId1"/>
          <a:stretch/>
        </p:blipFill>
        <p:spPr>
          <a:xfrm>
            <a:off x="7286760" y="5214960"/>
            <a:ext cx="1611000" cy="1316160"/>
          </a:xfrm>
          <a:prstGeom prst="rect">
            <a:avLst/>
          </a:prstGeom>
          <a:ln w="0">
            <a:noFill/>
          </a:ln>
        </p:spPr>
      </p:pic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1652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Главное, что мы должны понять и запомнить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457200" y="2499840"/>
            <a:ext cx="8229600" cy="38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Декодирование – действие с информацией, обратное кодированию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Закодированное сообщение можно декодировать, если известно правило кодирования или имеется кодировочная таблиц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Информацию, которая содержится в закодированном сообщении, человек может получить, только декодировав его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15" name="Picture 5" descr="j0397202"/>
          <p:cNvPicPr/>
          <p:nvPr/>
        </p:nvPicPr>
        <p:blipFill>
          <a:blip r:embed="rId2"/>
          <a:stretch/>
        </p:blipFill>
        <p:spPr>
          <a:xfrm rot="13644600">
            <a:off x="7907760" y="4469040"/>
            <a:ext cx="1082520" cy="8906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4617b"/>
                </a:solidFill>
                <a:latin typeface="Calibri"/>
              </a:rPr>
              <a:t>Домашнее задание</a:t>
            </a:r>
            <a:endParaRPr b="0" lang="en-US" sz="6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§10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18" name="Picture 4" descr="j0410909"/>
          <p:cNvPicPr/>
          <p:nvPr/>
        </p:nvPicPr>
        <p:blipFill>
          <a:blip r:embed="rId1"/>
          <a:stretch/>
        </p:blipFill>
        <p:spPr>
          <a:xfrm>
            <a:off x="3000240" y="2786040"/>
            <a:ext cx="3600720" cy="29052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1562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00"/>
                </a:solidFill>
                <a:latin typeface="Calibri"/>
              </a:rPr>
              <a:t>Попробуйте дополнить предложение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Сегодня на уроке я узнал…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Мне было интересно…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Мне было трудно…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Теперь я могу…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Сегодня я</a:t>
            </a: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 научился…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У</a:t>
            </a: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 меня получилось …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Я попробую…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Меня удивило…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Мне захотелось…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422" name="Прямоугольник 3" descr=""/>
          <p:cNvPicPr/>
          <p:nvPr/>
        </p:nvPicPr>
        <p:blipFill>
          <a:blip r:embed="rId1"/>
          <a:stretch/>
        </p:blipFill>
        <p:spPr>
          <a:xfrm>
            <a:off x="633240" y="2225520"/>
            <a:ext cx="7907400" cy="125604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5" descr="C:\Documents and Settings\Пользователь\Рабочий стол\с2.jpg"/>
          <p:cNvPicPr/>
          <p:nvPr/>
        </p:nvPicPr>
        <p:blipFill>
          <a:blip r:embed="rId2"/>
          <a:stretch/>
        </p:blipFill>
        <p:spPr>
          <a:xfrm>
            <a:off x="3357720" y="3571920"/>
            <a:ext cx="2581200" cy="27748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3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4617b"/>
                </a:solidFill>
                <a:latin typeface="Calibri"/>
              </a:rPr>
              <a:t>Вспомни</a:t>
            </a:r>
            <a:endParaRPr b="0" lang="en-US" sz="8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Зачем люди кодируют информацию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акие способы кодирования ты знаешь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Изменяется ли смысл сообщения при кодировании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 каком виде информация запоминается в памяти компьютера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65" name="Picture 5" descr="BD05012_"/>
          <p:cNvPicPr/>
          <p:nvPr/>
        </p:nvPicPr>
        <p:blipFill>
          <a:blip r:embed="rId1"/>
          <a:stretch/>
        </p:blipFill>
        <p:spPr>
          <a:xfrm>
            <a:off x="6715080" y="4572000"/>
            <a:ext cx="1779480" cy="15559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4617b"/>
                </a:solidFill>
                <a:latin typeface="Calibri"/>
              </a:rPr>
              <a:t>Автогонки</a:t>
            </a:r>
            <a:endParaRPr b="0" lang="en-US" sz="6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67" name="Picture 2" descr="C:\Documents and Settings\Пользователь\Рабочий стол\с3.jpg"/>
          <p:cNvPicPr/>
          <p:nvPr/>
        </p:nvPicPr>
        <p:blipFill>
          <a:blip r:embed="rId1"/>
          <a:stretch/>
        </p:blipFill>
        <p:spPr>
          <a:xfrm>
            <a:off x="428760" y="2000160"/>
            <a:ext cx="2643120" cy="216720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3" descr="C:\Documents and Settings\Пользователь\Рабочий стол\с4.gif"/>
          <p:cNvPicPr/>
          <p:nvPr/>
        </p:nvPicPr>
        <p:blipFill>
          <a:blip r:embed="rId2"/>
          <a:stretch/>
        </p:blipFill>
        <p:spPr>
          <a:xfrm>
            <a:off x="2071800" y="3929040"/>
            <a:ext cx="6762600" cy="25369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6" descr="j0210200"/>
          <p:cNvPicPr/>
          <p:nvPr/>
        </p:nvPicPr>
        <p:blipFill>
          <a:blip r:embed="rId1"/>
          <a:stretch/>
        </p:blipFill>
        <p:spPr>
          <a:xfrm>
            <a:off x="920880" y="281160"/>
            <a:ext cx="7016760" cy="621648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 txBox="1"/>
          <p:nvPr/>
        </p:nvSpPr>
        <p:spPr>
          <a:xfrm>
            <a:off x="1071720" y="2071800"/>
            <a:ext cx="692928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49"/>
              </a:spcBef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Декодирование – это действие с информацией, обратное кодированию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Декодирование – это, как и кодирование, изменение формы представления информации без изменения смысл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2" descr=""/>
          <p:cNvPicPr/>
          <p:nvPr/>
        </p:nvPicPr>
        <p:blipFill>
          <a:blip r:embed="rId1"/>
          <a:stretch/>
        </p:blipFill>
        <p:spPr>
          <a:xfrm>
            <a:off x="1071720" y="1143000"/>
            <a:ext cx="6818040" cy="231624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3" descr=""/>
          <p:cNvPicPr/>
          <p:nvPr/>
        </p:nvPicPr>
        <p:blipFill>
          <a:blip r:embed="rId2"/>
          <a:stretch/>
        </p:blipFill>
        <p:spPr>
          <a:xfrm>
            <a:off x="1357200" y="3571920"/>
            <a:ext cx="6261120" cy="2438280"/>
          </a:xfrm>
          <a:prstGeom prst="rect">
            <a:avLst/>
          </a:prstGeom>
          <a:ln w="0">
            <a:noFill/>
          </a:ln>
        </p:spPr>
      </p:pic>
      <p:cxnSp>
        <p:nvCxnSpPr>
          <p:cNvPr id="373" name="Прямая со стрелкой 8"/>
          <p:cNvCxnSpPr/>
          <p:nvPr/>
        </p:nvCxnSpPr>
        <p:spPr>
          <a:xfrm>
            <a:off x="4143240" y="4428720"/>
            <a:ext cx="1572480" cy="25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74" name="Прямая со стрелкой 10"/>
          <p:cNvCxnSpPr/>
          <p:nvPr/>
        </p:nvCxnSpPr>
        <p:spPr>
          <a:xfrm>
            <a:off x="4143240" y="4857840"/>
            <a:ext cx="1572480" cy="35784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75" name="Прямая со стрелкой 12"/>
          <p:cNvCxnSpPr/>
          <p:nvPr/>
        </p:nvCxnSpPr>
        <p:spPr>
          <a:xfrm>
            <a:off x="4143240" y="5214600"/>
            <a:ext cx="1572480" cy="429480"/>
          </a:xfrm>
          <a:prstGeom prst="straightConnector1">
            <a:avLst/>
          </a:prstGeom>
          <a:ln w="2844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376" name="Прямая со стрелкой 14"/>
          <p:cNvCxnSpPr/>
          <p:nvPr/>
        </p:nvCxnSpPr>
        <p:spPr>
          <a:xfrm flipV="1">
            <a:off x="4143240" y="4785840"/>
            <a:ext cx="1572480" cy="858240"/>
          </a:xfrm>
          <a:prstGeom prst="straightConnector1">
            <a:avLst/>
          </a:prstGeom>
          <a:ln w="28440">
            <a:solidFill>
              <a:srgbClr val="00b050"/>
            </a:solidFill>
            <a:miter/>
            <a:tailEnd len="med" type="arrow" w="med"/>
          </a:ln>
        </p:spPr>
      </p:cxn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Лента лицом вверх 4"/>
          <p:cNvSpPr/>
          <p:nvPr/>
        </p:nvSpPr>
        <p:spPr>
          <a:xfrm>
            <a:off x="500040" y="5072040"/>
            <a:ext cx="8001000" cy="785880"/>
          </a:xfrm>
          <a:custGeom>
            <a:avLst/>
            <a:gdLst>
              <a:gd name="textAreaLeft" fmla="*/ 1320480 w 8001000"/>
              <a:gd name="textAreaRight" fmla="*/ 6680520 w 8001000"/>
              <a:gd name="textAreaTop" fmla="*/ 0 h 785880"/>
              <a:gd name="textAreaBottom" fmla="*/ 655200 h 785880"/>
            </a:gdLst>
            <a:ahLst/>
            <a:rect l="textAreaLeft" t="textAreaTop" r="textAreaRight" b="textAreaBottom"/>
            <a:pathLst>
              <a:path w="21600" h="21600">
                <a:moveTo>
                  <a:pt x="6265" y="18000"/>
                </a:moveTo>
                <a:lnTo>
                  <a:pt x="6265" y="20700"/>
                </a:lnTo>
                <a:cubicBezTo>
                  <a:pt x="6265" y="21150"/>
                  <a:pt x="5845" y="21600"/>
                  <a:pt x="5425" y="21600"/>
                </a:cubicBezTo>
                <a:lnTo>
                  <a:pt x="0" y="21600"/>
                </a:lnTo>
                <a:lnTo>
                  <a:pt x="2750" y="12600"/>
                </a:lnTo>
                <a:lnTo>
                  <a:pt x="0" y="3600"/>
                </a:lnTo>
                <a:lnTo>
                  <a:pt x="3565" y="3600"/>
                </a:lnTo>
                <a:lnTo>
                  <a:pt x="3565" y="900"/>
                </a:lnTo>
                <a:cubicBezTo>
                  <a:pt x="3565" y="450"/>
                  <a:pt x="3985" y="0"/>
                  <a:pt x="4405" y="0"/>
                </a:cubicBezTo>
                <a:lnTo>
                  <a:pt x="17195" y="0"/>
                </a:lnTo>
                <a:cubicBezTo>
                  <a:pt x="17615" y="0"/>
                  <a:pt x="18035" y="450"/>
                  <a:pt x="18035" y="900"/>
                </a:cubicBezTo>
                <a:lnTo>
                  <a:pt x="18035" y="3600"/>
                </a:lnTo>
                <a:lnTo>
                  <a:pt x="21600" y="3600"/>
                </a:lnTo>
                <a:lnTo>
                  <a:pt x="18850" y="12600"/>
                </a:lnTo>
                <a:lnTo>
                  <a:pt x="21600" y="21600"/>
                </a:lnTo>
                <a:lnTo>
                  <a:pt x="16175" y="21600"/>
                </a:lnTo>
                <a:cubicBezTo>
                  <a:pt x="15755" y="21600"/>
                  <a:pt x="15335" y="21150"/>
                  <a:pt x="15335" y="20700"/>
                </a:cubicBezTo>
                <a:lnTo>
                  <a:pt x="15335" y="18000"/>
                </a:lnTo>
                <a:close/>
              </a:path>
              <a:path fill="darkenLess" w="21600" h="21600">
                <a:moveTo>
                  <a:pt x="6265" y="18000"/>
                </a:moveTo>
                <a:lnTo>
                  <a:pt x="6265" y="20700"/>
                </a:lnTo>
                <a:cubicBezTo>
                  <a:pt x="6265" y="20250"/>
                  <a:pt x="5845" y="19800"/>
                  <a:pt x="5425" y="19800"/>
                </a:cubicBezTo>
                <a:lnTo>
                  <a:pt x="4405" y="19800"/>
                </a:lnTo>
                <a:cubicBezTo>
                  <a:pt x="3985" y="19800"/>
                  <a:pt x="3565" y="19350"/>
                  <a:pt x="3565" y="18900"/>
                </a:cubicBezTo>
                <a:cubicBezTo>
                  <a:pt x="3565" y="18450"/>
                  <a:pt x="3985" y="18000"/>
                  <a:pt x="4405" y="18000"/>
                </a:cubicBezTo>
                <a:close/>
              </a:path>
              <a:path fill="darkenLess" w="21600" h="21600">
                <a:moveTo>
                  <a:pt x="15335" y="18000"/>
                </a:moveTo>
                <a:lnTo>
                  <a:pt x="15335" y="20700"/>
                </a:lnTo>
                <a:cubicBezTo>
                  <a:pt x="15335" y="20250"/>
                  <a:pt x="15755" y="19800"/>
                  <a:pt x="16175" y="19800"/>
                </a:cubicBezTo>
                <a:lnTo>
                  <a:pt x="17195" y="19800"/>
                </a:lnTo>
                <a:cubicBezTo>
                  <a:pt x="17615" y="19800"/>
                  <a:pt x="18035" y="19350"/>
                  <a:pt x="18035" y="18900"/>
                </a:cubicBezTo>
                <a:cubicBezTo>
                  <a:pt x="18035" y="18450"/>
                  <a:pt x="17615" y="18000"/>
                  <a:pt x="17195" y="18000"/>
                </a:cubicBezTo>
                <a:close/>
              </a:path>
              <a:path fill="darkenLess" w="21600" h="21600">
                <a:moveTo>
                  <a:pt x="3565" y="18900"/>
                </a:moveTo>
                <a:lnTo>
                  <a:pt x="3565" y="3600"/>
                </a:lnTo>
              </a:path>
              <a:path fill="darkenLess" w="21600" h="21600">
                <a:moveTo>
                  <a:pt x="18035" y="18900"/>
                </a:moveTo>
                <a:lnTo>
                  <a:pt x="18035" y="3600"/>
                </a:lnTo>
              </a:path>
            </a:pathLst>
          </a:custGeom>
          <a:solidFill>
            <a:srgbClr val="94f7dc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Лента лицом вверх 3"/>
          <p:cNvSpPr/>
          <p:nvPr/>
        </p:nvSpPr>
        <p:spPr>
          <a:xfrm>
            <a:off x="500040" y="928800"/>
            <a:ext cx="8001000" cy="785880"/>
          </a:xfrm>
          <a:custGeom>
            <a:avLst/>
            <a:gdLst>
              <a:gd name="textAreaLeft" fmla="*/ 1320480 w 8001000"/>
              <a:gd name="textAreaRight" fmla="*/ 6680520 w 8001000"/>
              <a:gd name="textAreaTop" fmla="*/ 0 h 785880"/>
              <a:gd name="textAreaBottom" fmla="*/ 655200 h 785880"/>
            </a:gdLst>
            <a:ahLst/>
            <a:rect l="textAreaLeft" t="textAreaTop" r="textAreaRight" b="textAreaBottom"/>
            <a:pathLst>
              <a:path w="21600" h="21600">
                <a:moveTo>
                  <a:pt x="6265" y="18000"/>
                </a:moveTo>
                <a:lnTo>
                  <a:pt x="6265" y="20700"/>
                </a:lnTo>
                <a:cubicBezTo>
                  <a:pt x="6265" y="21150"/>
                  <a:pt x="5845" y="21600"/>
                  <a:pt x="5425" y="21600"/>
                </a:cubicBezTo>
                <a:lnTo>
                  <a:pt x="0" y="21600"/>
                </a:lnTo>
                <a:lnTo>
                  <a:pt x="2750" y="12600"/>
                </a:lnTo>
                <a:lnTo>
                  <a:pt x="0" y="3600"/>
                </a:lnTo>
                <a:lnTo>
                  <a:pt x="3565" y="3600"/>
                </a:lnTo>
                <a:lnTo>
                  <a:pt x="3565" y="900"/>
                </a:lnTo>
                <a:cubicBezTo>
                  <a:pt x="3565" y="450"/>
                  <a:pt x="3985" y="0"/>
                  <a:pt x="4405" y="0"/>
                </a:cubicBezTo>
                <a:lnTo>
                  <a:pt x="17195" y="0"/>
                </a:lnTo>
                <a:cubicBezTo>
                  <a:pt x="17615" y="0"/>
                  <a:pt x="18035" y="450"/>
                  <a:pt x="18035" y="900"/>
                </a:cubicBezTo>
                <a:lnTo>
                  <a:pt x="18035" y="3600"/>
                </a:lnTo>
                <a:lnTo>
                  <a:pt x="21600" y="3600"/>
                </a:lnTo>
                <a:lnTo>
                  <a:pt x="18850" y="12600"/>
                </a:lnTo>
                <a:lnTo>
                  <a:pt x="21600" y="21600"/>
                </a:lnTo>
                <a:lnTo>
                  <a:pt x="16175" y="21600"/>
                </a:lnTo>
                <a:cubicBezTo>
                  <a:pt x="15755" y="21600"/>
                  <a:pt x="15335" y="21150"/>
                  <a:pt x="15335" y="20700"/>
                </a:cubicBezTo>
                <a:lnTo>
                  <a:pt x="15335" y="18000"/>
                </a:lnTo>
                <a:close/>
              </a:path>
              <a:path fill="darkenLess" w="21600" h="21600">
                <a:moveTo>
                  <a:pt x="6265" y="18000"/>
                </a:moveTo>
                <a:lnTo>
                  <a:pt x="6265" y="20700"/>
                </a:lnTo>
                <a:cubicBezTo>
                  <a:pt x="6265" y="20250"/>
                  <a:pt x="5845" y="19800"/>
                  <a:pt x="5425" y="19800"/>
                </a:cubicBezTo>
                <a:lnTo>
                  <a:pt x="4405" y="19800"/>
                </a:lnTo>
                <a:cubicBezTo>
                  <a:pt x="3985" y="19800"/>
                  <a:pt x="3565" y="19350"/>
                  <a:pt x="3565" y="18900"/>
                </a:cubicBezTo>
                <a:cubicBezTo>
                  <a:pt x="3565" y="18450"/>
                  <a:pt x="3985" y="18000"/>
                  <a:pt x="4405" y="18000"/>
                </a:cubicBezTo>
                <a:close/>
              </a:path>
              <a:path fill="darkenLess" w="21600" h="21600">
                <a:moveTo>
                  <a:pt x="15335" y="18000"/>
                </a:moveTo>
                <a:lnTo>
                  <a:pt x="15335" y="20700"/>
                </a:lnTo>
                <a:cubicBezTo>
                  <a:pt x="15335" y="20250"/>
                  <a:pt x="15755" y="19800"/>
                  <a:pt x="16175" y="19800"/>
                </a:cubicBezTo>
                <a:lnTo>
                  <a:pt x="17195" y="19800"/>
                </a:lnTo>
                <a:cubicBezTo>
                  <a:pt x="17615" y="19800"/>
                  <a:pt x="18035" y="19350"/>
                  <a:pt x="18035" y="18900"/>
                </a:cubicBezTo>
                <a:cubicBezTo>
                  <a:pt x="18035" y="18450"/>
                  <a:pt x="17615" y="18000"/>
                  <a:pt x="17195" y="18000"/>
                </a:cubicBezTo>
                <a:close/>
              </a:path>
              <a:path fill="darkenLess" w="21600" h="21600">
                <a:moveTo>
                  <a:pt x="3565" y="18900"/>
                </a:moveTo>
                <a:lnTo>
                  <a:pt x="3565" y="3600"/>
                </a:lnTo>
              </a:path>
              <a:path fill="darkenLess" w="21600" h="21600">
                <a:moveTo>
                  <a:pt x="18035" y="18900"/>
                </a:moveTo>
                <a:lnTo>
                  <a:pt x="18035" y="3600"/>
                </a:lnTo>
              </a:path>
            </a:pathLst>
          </a:custGeom>
          <a:solidFill>
            <a:srgbClr val="94f7dc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1856880" y="928800"/>
            <a:ext cx="5286600" cy="53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 01 19 20 07 20  20 18 01 03 01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 А С Т Ё Т   Т Р А В 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80" name="Picture 2" descr=""/>
          <p:cNvPicPr/>
          <p:nvPr/>
        </p:nvPicPr>
        <p:blipFill>
          <a:blip r:embed="rId1"/>
          <a:srcRect l="4294" t="65475" r="7156" b="11390"/>
          <a:stretch/>
        </p:blipFill>
        <p:spPr>
          <a:xfrm>
            <a:off x="642960" y="1928880"/>
            <a:ext cx="8039160" cy="27860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500"/>
                                        <p:tgtEl>
                                          <p:spTgt spid="3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500"/>
                                        <p:tgtEl>
                                          <p:spTgt spid="3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500"/>
                                        <p:tgtEl>
                                          <p:spTgt spid="3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2" descr=""/>
          <p:cNvPicPr/>
          <p:nvPr/>
        </p:nvPicPr>
        <p:blipFill>
          <a:blip r:embed="rId1"/>
          <a:srcRect l="5204" t="5798" r="6053" b="63892"/>
          <a:stretch/>
        </p:blipFill>
        <p:spPr>
          <a:xfrm>
            <a:off x="2428920" y="714240"/>
            <a:ext cx="6286320" cy="284796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2" descr=""/>
          <p:cNvPicPr/>
          <p:nvPr/>
        </p:nvPicPr>
        <p:blipFill>
          <a:blip r:embed="rId2"/>
          <a:srcRect l="5194" t="65475" r="6810" b="11390"/>
          <a:stretch/>
        </p:blipFill>
        <p:spPr>
          <a:xfrm>
            <a:off x="785880" y="3429000"/>
            <a:ext cx="7929360" cy="276552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5" descr="j0404643"/>
          <p:cNvPicPr/>
          <p:nvPr/>
        </p:nvPicPr>
        <p:blipFill>
          <a:blip r:embed="rId3"/>
          <a:stretch/>
        </p:blipFill>
        <p:spPr>
          <a:xfrm>
            <a:off x="357120" y="1500120"/>
            <a:ext cx="1924200" cy="1677960"/>
          </a:xfrm>
          <a:prstGeom prst="rect">
            <a:avLst/>
          </a:prstGeom>
          <a:ln w="0">
            <a:noFill/>
          </a:ln>
        </p:spPr>
      </p:pic>
      <p:sp>
        <p:nvSpPr>
          <p:cNvPr id="384" name="TextBox 4"/>
          <p:cNvSpPr/>
          <p:nvPr/>
        </p:nvSpPr>
        <p:spPr>
          <a:xfrm>
            <a:off x="3571920" y="200016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 О 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Box 6"/>
          <p:cNvSpPr/>
          <p:nvPr/>
        </p:nvSpPr>
        <p:spPr>
          <a:xfrm>
            <a:off x="5429160" y="200016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 О 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Box 7"/>
          <p:cNvSpPr/>
          <p:nvPr/>
        </p:nvSpPr>
        <p:spPr>
          <a:xfrm>
            <a:off x="7286760" y="1987560"/>
            <a:ext cx="92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 И 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Box 8"/>
          <p:cNvSpPr/>
          <p:nvPr/>
        </p:nvSpPr>
        <p:spPr>
          <a:xfrm>
            <a:off x="3500280" y="3000240"/>
            <a:ext cx="121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Arial"/>
              </a:rPr>
              <a:t>Х Л Е 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Box 9"/>
          <p:cNvSpPr/>
          <p:nvPr/>
        </p:nvSpPr>
        <p:spPr>
          <a:xfrm>
            <a:off x="5286240" y="3000240"/>
            <a:ext cx="121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Arial"/>
              </a:rPr>
              <a:t>З Н А 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Box 10"/>
          <p:cNvSpPr/>
          <p:nvPr/>
        </p:nvSpPr>
        <p:spPr>
          <a:xfrm>
            <a:off x="6929280" y="3000240"/>
            <a:ext cx="121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Arial"/>
              </a:rPr>
              <a:t>З В У 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9dd9"/>
                </a:solidFill>
                <a:latin typeface="Constantia"/>
              </a:rPr>
              <a:t>Минутка отдыха</a:t>
            </a:r>
            <a:endParaRPr b="0" lang="en-US" sz="6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2" name="Овал 1"/>
          <p:cNvGrpSpPr/>
          <p:nvPr/>
        </p:nvGrpSpPr>
        <p:grpSpPr>
          <a:xfrm>
            <a:off x="2852640" y="1749600"/>
            <a:ext cx="792360" cy="860400"/>
            <a:chOff x="2852640" y="1749600"/>
            <a:chExt cx="792360" cy="860400"/>
          </a:xfrm>
        </p:grpSpPr>
        <p:pic>
          <p:nvPicPr>
            <p:cNvPr id="393" name="Овал 1" descr=""/>
            <p:cNvPicPr/>
            <p:nvPr/>
          </p:nvPicPr>
          <p:blipFill>
            <a:blip r:embed="rId1"/>
            <a:stretch/>
          </p:blipFill>
          <p:spPr>
            <a:xfrm>
              <a:off x="2852640" y="1749600"/>
              <a:ext cx="792360" cy="86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4" name=""/>
            <p:cNvSpPr/>
            <p:nvPr/>
          </p:nvSpPr>
          <p:spPr>
            <a:xfrm>
              <a:off x="3022560" y="1890720"/>
              <a:ext cx="45576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 thruBlk="true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path" presetID="5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0521 0.16998 C 0.31129 0.02336 0.23629 -0.10384 0.13577 -0.11263 C 0.03959 -0.1235 -0.05017 -0.02474 -0.05625 0.11772 C -0.06371 0.24884 -0.000689999999999996 0.37188 0.08941 0.38067 C 0.1717 0.38714 0.24983 0.30527 0.25573 0.1834 C 0.26181 0.07169 0.2092 -0.03353 0.13281 -0.04278 C 0.06233 -0.04903 -0.00382 0.0192 -0.00833 0.12188 C -0.01267 0.21369 0.02917 0.30342 0.09219 0.30805 C 0.14931 0.31452 0.20313 0.26203 0.20781 0.17877 C 0.21077 0.1043 0.17917 0.03215 0.12969 0.02798 C 0.08629 0.02336 0.04271 0.06291 0.03959 0.1265 C 0.03681 0.18108 0.0592 0.23358 0.09531 0.23821 C 0.12535 0.24237 0.15677 0.21832 0.15834 0.17461 C 0.16129 0.13922 0.14931 0.10199 0.12691 0.09783 C 0.10868 0.09783 0.09063 0.10662 0.08785 0.13067 C 0.08629 0.14616 0.08941 0.16143 0.09827 0.1679 C 0.10261 0.16998 0.10573 0.16998 0.11025 0.1679 E">
                                      <p:cBhvr>
                                        <p:cTn id="80" dur="2000" fill="hold"/>
                                        <p:tgtEl>
                                          <p:spTgt spid="3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5T17:35:54Z</dcterms:created>
  <dc:creator>1</dc:creator>
  <dc:description/>
  <dc:language>en-US</dc:language>
  <cp:lastModifiedBy>Пользователь</cp:lastModifiedBy>
  <dcterms:modified xsi:type="dcterms:W3CDTF">2012-10-24T04:41:13Z</dcterms:modified>
  <cp:revision>19</cp:revision>
  <dc:subject/>
  <dc:title>Декодирование информации</dc:title>
</cp:coreProperties>
</file>